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206B-3159-4EFD-A1BC-1E917EBEFD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6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ustomary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ystem of measurement used almost exclusively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around a closed, flat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used to count; the members of the set (1,2,3,4,5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less than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ne for representing and graphing numbers. Each point on the line corresponds to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mbers of the set (0,1,2,3,4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sius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 be divided by 2 without a remainder; members of the set (-4,-2,0,2,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hrenheit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ale used on some thermometers to measur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have a remainder of 1 when divided by 2; members of the set (-3,-1,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name parts of a w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y of numbers with an indicator to show the value of a certain 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st of numbers arranged according to a certain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in a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in which the possible responses are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displaying a range of data. A histogram is a special type of bar graph that displays data in intervals of equal size with no space between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-Option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ey that does not limit the possible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hod of collecting data about a particula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om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number of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at which segments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aight collection of points extending in opposite directions withou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ric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ernational system of measurement based on multiples of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that begins at a point and continues without end in on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of a line with two distinct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A0A-7203-436E-8549-A86342A7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F79-FE99-44C0-A394-6874F989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475-9EB7-49C5-B12D-BA8FD649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AAA-4C7D-4BDE-A330-BFCCC08A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1299-BFE9-4701-9AF0-3A262B6D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E2A2-882C-4163-944E-9617E296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5E6-3647-4C7B-AD48-F1E86521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7DE3-785E-46E9-B605-18C57D1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7B57-9FC1-40E2-AB4D-97C7617C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1F9C-D427-4A4F-B0B7-EF10CCAC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FBB1-056F-4AF7-9116-D33C9DE8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BED-3C92-4011-B4B5-060CC545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D770-8FF4-4EA4-A574-A2F00A89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5B4-9BE8-4781-A3D0-E7730DC6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1D1B-D987-461E-81F0-D900C691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6460-D60A-4003-8D5F-CF354BF5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A0B6-EFE6-482D-8F7D-F012EEFE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395-4A61-4775-A11B-8891EAB6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1E8-4D33-4801-987C-A4F5A90E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7659-C04E-4D11-8076-38558865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96F-5E95-45DE-A868-B203DC2F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5979-F65F-4919-85F7-81C1AA01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5C9-D256-4648-B5C9-CEA58F95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523-1910-440D-B99D-28712137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4BAC-5E06-4BE7-BE13-4AFCB7FBB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7216-19AC-42E3-A6FD-AF6C17C471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143000" y="304920"/>
            <a:ext cx="6858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cc"/>
                </a:solidFill>
                <a:latin typeface="Comic Sans MS"/>
              </a:rPr>
              <a:t>Math vocabulary</a:t>
            </a:r>
            <a:endParaRPr b="0" lang="en-US" sz="6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2590920"/>
            <a:ext cx="868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Lessons 6-10 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&amp;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Investigation 1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U.S. Customary System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ystem of measurement used almost exclusively in the United Stat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Perimete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distance around a closed, flat shap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ounting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numbers used to count; the members of the set (1,2,3,4,5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676520" y="53352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Negativ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less than zero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ber 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762120" y="1981080"/>
            <a:ext cx="7543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Comic Sans MS"/>
              </a:rPr>
              <a:t>A line for representing and graphing numbers. Each point on the line corresponds to a number</a:t>
            </a:r>
            <a:endParaRPr b="0" lang="en-US" sz="5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Whole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members of the set (0,1,2,3,4…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Celsius 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Even Number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can be divided by 2 without a remainder; members of the set (-4,-2,0,2,4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Fahrenheit Scale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cale used on some thermometers to measure tempera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76520" y="53352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dd Numbers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have a remainder of 1 when divided by 2; members of the set (-3,-1,1,3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Fraction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s that name parts of a who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cal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display of numbers with an indicator to show the value of a certain meas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quenc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list of numbers arranged according to a certain rul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Ter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Number in a sequenc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67652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Closed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in which the possible responses are limite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Histogram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62120" y="2362320"/>
            <a:ext cx="80010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A method of displaying a range of data. A histogram is a special type of bar graph that displays data in intervals of equal size with </a:t>
            </a:r>
            <a:r>
              <a:rPr b="1" i="1" lang="en-US" sz="4300" spc="-1" strike="noStrike" u="sng">
                <a:solidFill>
                  <a:srgbClr val="ffffcc"/>
                </a:solidFill>
                <a:uFillTx/>
                <a:latin typeface="Comic Sans MS"/>
              </a:rPr>
              <a:t>no</a:t>
            </a:r>
            <a:r>
              <a:rPr b="1" lang="en-US" sz="4300" spc="-1" strike="noStrike">
                <a:solidFill>
                  <a:srgbClr val="ffffcc"/>
                </a:solidFill>
                <a:latin typeface="Comic Sans MS"/>
              </a:rPr>
              <a:t> space between them.</a:t>
            </a:r>
            <a:endParaRPr b="0" lang="en-US" sz="4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00200" y="0"/>
            <a:ext cx="5867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Open-Option Survey</a:t>
            </a:r>
            <a:endParaRPr b="0" lang="en-US" sz="5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urvey that does not limit the possible response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urve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method of collecting data about a particular popula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76520" y="5335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Denomin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bottom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Numerator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The top number of a fra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Endpoints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62120" y="236232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Points at which segments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Line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2120" y="2362320"/>
            <a:ext cx="754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straight collection of points extending in opposite directions without end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76520" y="53352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Comic Sans MS"/>
              </a:rPr>
              <a:t>Metric System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n international system of measurement based on multiples of te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Ray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76212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that begins at a point and continues without end in one direction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676520" y="533520"/>
            <a:ext cx="5867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cc"/>
                </a:solidFill>
                <a:latin typeface="Comic Sans MS"/>
              </a:rPr>
              <a:t>Segment</a:t>
            </a:r>
            <a:endParaRPr b="0" lang="en-US" sz="7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762120" y="2362320"/>
            <a:ext cx="754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Comic Sans MS"/>
              </a:rPr>
              <a:t>A part of a line with two distinct endpoint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2:06:29Z</dcterms:created>
  <dc:creator>one1</dc:creator>
  <dc:description/>
  <dc:language>en-US</dc:language>
  <cp:lastModifiedBy>RomaK</cp:lastModifiedBy>
  <dcterms:modified xsi:type="dcterms:W3CDTF">2015-09-04T07:43:19Z</dcterms:modified>
  <cp:revision>4</cp:revision>
  <dc:subject/>
  <dc:title>No Slide Title</dc:title>
</cp:coreProperties>
</file>